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1A1E-82D5-4717-BC2D-6473B2CE9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59D5-77E4-49C3-BDB9-3C12E2ACC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7A30-52B9-4465-BB2F-6449355A7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5B52-99D1-46D5-878A-4FB3F3BD0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CB482-1218-4401-A055-36C48A8B2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52657-D4E8-4035-AECF-99757E1B0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DABDC-83F6-4E04-9028-756966D2F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2EDD3-63BB-488D-BCBC-34DAE1735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78004-60BD-49DA-968E-ACF8CDDF2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9C66C-ABD7-4D2E-967C-23956CD1E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DA38C-BBC4-4728-B832-FF78FB74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1F9C-21DB-4C7B-81BF-9F226AEB3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CA98D-0748-44D0-9BC5-6C674452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0A3E0-2365-4FF5-908B-81EDECE9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461DA-DFDD-4E05-BB04-1B975B786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938EB-2BD0-48D7-8CCE-B3171C76A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90B7B-B8D4-49AC-865E-CE76E0928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7203-DBDB-498A-AF6D-31D69FB26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7109-6C3B-4354-A797-111CFFF58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03F8-C95F-4657-860D-C6729509A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7369-ECFF-4799-8F20-7B8FC719E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D76D-F8C5-49CC-80F7-C1DF298C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9C5F-7CC5-4534-B158-10DF2462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E2CB-6AF8-4F4B-9172-3259F61A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67CCB-209E-4BC7-AA7A-B197B06D321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EAA27-3265-4A44-9487-67F5CA5E7C7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xit Slip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exit slip strategy requires the students to respond in writing to a prompt posed by the teacher at the end of class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it slips allow students to reflect on and process information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provide the teacher with feedback regarding student comprehension of the lesson content and/or attainment of the learning goal(s)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Popular Exit Slip Websites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14040" y="18288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http://www.readwritethink.org/professional-development/strategy-guides/exit-slips-30760.htm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http://www.adlit.org/strategies/19805/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http://www.readingrockets.org/strategies/exit_slips/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http://www.edudemic.com/12-digital-tools-to-implement-exit-slips/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9180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Rate yourself at the top of the exit slip.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4" name="Content Placeholder 3" descr="questioning skills - Student Copy.png"/>
          <p:cNvPicPr/>
          <p:nvPr/>
        </p:nvPicPr>
        <p:blipFill>
          <a:blip r:embed="rId1"/>
          <a:srcRect l="0" t="-54606" r="0" b="-54606"/>
          <a:stretch/>
        </p:blipFill>
        <p:spPr>
          <a:xfrm>
            <a:off x="0" y="533520"/>
            <a:ext cx="10250640" cy="6324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4T13:25:38Z</dcterms:created>
  <dc:creator> </dc:creator>
  <dc:description/>
  <dc:language>en-US</dc:language>
  <cp:lastModifiedBy>Karen Verkler</cp:lastModifiedBy>
  <cp:lastPrinted>2013-10-06T12:59:47Z</cp:lastPrinted>
  <dcterms:modified xsi:type="dcterms:W3CDTF">2014-08-05T14:23:22Z</dcterms:modified>
  <cp:revision>332</cp:revision>
  <dc:subject/>
  <dc:title>Slide 1</dc:title>
</cp:coreProperties>
</file>